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027-366F-43FB-8463-D79AB9AE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CA9-229D-47BC-8FBE-22365FE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E3E-8C73-40B3-9214-A7B1FF53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BB2-219A-484E-8050-C65D2D77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0EE-3F88-47CF-A9C4-9AB80A5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C64-3F74-4214-B841-09B90A7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926-8677-4D02-B609-3A910F7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AE3-3C6B-4DAD-81B7-1F541C9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A49-7E0A-40B6-B8E2-AF5B76B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3D2-D440-4649-93C6-531DD16D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8B3-1E7D-4876-8458-318FC46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ADF-8918-41F4-A478-1A1BA8E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33CB-6456-4C48-9F53-C163288E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утри жидкости существует….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Давление на одном и том же уровне жидкости… по всем …… 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С глубиной давление …………..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Давление, которое жидкость оказывает на дно и стенки сосуда, можно вычислить по формуле……….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вление зависит от …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Calligraphy"/>
              </a:rPr>
              <a:t>Задачи урока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) дать определение  сообщающимся сосудам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) сформулировать закон сообщающихся сосуд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Calligraphy"/>
              </a:rPr>
              <a:t>Задачи урока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) дать определение  сообщающимся сосудам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) сформулировать закон сообщающихся сосуд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3) узнать применение на практи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76840" cy="324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4413240" cy="328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322880" cy="317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2861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6000" spc="-1" strike="noStrike">
                <a:solidFill>
                  <a:srgbClr val="99cc00"/>
                </a:solidFill>
                <a:latin typeface="Monotype Corsiva"/>
              </a:rPr>
              <a:t>Сосуды, которые имеют общую соединяющую их часть, называются сообщающимися сосудами</a:t>
            </a:r>
            <a:r>
              <a:rPr b="1" lang="en-US" sz="6000" spc="-1" strike="noStrike">
                <a:solidFill>
                  <a:srgbClr val="99cc00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79480" y="719280"/>
            <a:ext cx="7383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сообщающихся сосудах любой формы  и сечения поверхности однородной жидкости устанавливают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 одном уровн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76520" y="2147760"/>
            <a:ext cx="601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, два, три , четы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и выше, руки ш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орот направо, вле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ё мы делаем у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ну ногу подним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м площадь уменьш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давление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ыгнем - вовсе пропадёт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87640" y="347760"/>
            <a:ext cx="496872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Если жидкость разнородна, то уровень высоты  жидкости в колене будет зависеть от плотности жидкости: чем плотность выше, тем высота столба жидкости мень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39116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05120" y="838080"/>
            <a:ext cx="6019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ешение задач.</a:t>
            </a:r>
            <a:endParaRPr b="1" lang="en-US" sz="7200" spc="1" strike="noStrike">
              <a:ln w="1260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ающимися  называются cосуды,  ……………………………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бщающихся сосудах любой ширины  и формы однородная жидкость устанавливается на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жидкость разнородна, то уровень высоты  жидкости в колене будет зависеть от …….. жидкости: чем плотность выше, тем высота столба жидкости ………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295280" y="3049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машнее задание.</a:t>
            </a:r>
            <a:endParaRPr b="1" lang="en-US" sz="7200" spc="1" strike="noStrike">
              <a:ln w="1260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75248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3716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раграф 41, упражнение 18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95280" y="3071880"/>
            <a:ext cx="682488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295280" y="76320"/>
            <a:ext cx="6172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ешение качественных задач.</a:t>
            </a:r>
            <a:endParaRPr b="1" lang="en-US" sz="7200" spc="1" strike="noStrike">
              <a:ln w="1260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143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371600" y="1981080"/>
            <a:ext cx="7315200" cy="3038400"/>
            <a:chOff x="1371600" y="1981080"/>
            <a:chExt cx="7315200" cy="30384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676520" y="2438280"/>
              <a:ext cx="558000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71600" y="198108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Сравните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давление</a:t>
              </a: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 жидкости на дн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37520" y="36212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495680" cy="312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Сосуды с водой имеют равные площади дна. В каком из них давление воды на дно больше и во сколько раз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20968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Давление, оказываемое столбом воды на дно, во втором сосуде в 2 раза больше, чем в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172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Уровень воды в сосудах одинаковый. Будет ли переливаться вода из одного сосуда в другой, если открыть кр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657600" cy="262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4648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т. Жидкость из одного сосуда в другой переливаться не будет, так как уровень жидкости одинаковый, следовательно и давление на кран тоже одинак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3849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для любителей 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жизни под водой человек совершенно не приспособлен. На глубине 20м под действием внешнего давления у него могут лопнуть барабанные перепонки. Опуститься же на глубину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м без специ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ряжения соверш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возможно. Прав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тренированные плов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чень коротк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ускаются под в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глубину 51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давление испы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тренированные пловц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ускаясь на глубину 51 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311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76840" cy="3243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441324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4322880" cy="317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2861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Calligraphy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Monotype Corsiva"/>
              </a:rPr>
              <a:t>Сообщающиеся сосу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Calligraphy"/>
              </a:rPr>
              <a:t>Цель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Monotype Corsiva"/>
              </a:rPr>
              <a:t>Изучение сообщающихся сосудов</a:t>
            </a:r>
            <a:r>
              <a:rPr b="0" lang="en-US" sz="60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Calligraphy"/>
              </a:rPr>
              <a:t>Задачи урока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1) дать определение  сообщающимся сосуда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3-14T16:23:49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